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A5B-0BBC-434A-97D3-C2B355A4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88C-B406-411F-A6EC-3E0E3863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57CE-80DA-468B-AF51-60E2164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F341D-D07B-497E-BCAC-5CA24E0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DE423-572B-4491-BFA6-936E36F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C0F4-6AA6-4E0E-9B9C-E3616C6C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49051-7C24-46D0-AF71-2561C01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1DB0C-439E-4D17-8A3A-C28BB96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8A212-5AA3-46CB-8E1C-EB6F48D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A9BF-5D1C-4C8E-8489-F6E06031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0E51D-EFFF-444B-8D74-D817CA25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026A6-AC3C-434B-B4FA-11F60E34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DBA-B845-4B94-974E-1C324672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40472-99C0-49AA-AAD7-4506ED07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7527B-61EC-4E31-9ECD-9973719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E664D-F017-4B88-B915-FBFE6424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6B9BE-B32E-4CA2-BACF-32EEE00A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F3CE8-C59E-401C-9074-462C94B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64ABE-D135-4A2B-8149-AC9EF7D8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789B7-160B-4313-BA50-F1925E6B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551C3-27BD-4F14-BB1F-1351A29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6E293-C723-4BCB-9D5E-41E71D8D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51421-A2C5-4D7C-92E2-2D3E3296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E0B-25E2-432E-879F-F4753A57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8E962-3EAA-4FBB-8322-76739590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5CE99-9C47-445B-914B-0DD9558E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E87CB-5623-4AE2-87D9-52023952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08E08-D1AD-4CD2-AD6B-9968500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E9024-25FF-4075-9A2E-F0C74A1C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06F09-6591-4758-94F8-FFCAFF4B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A7FFA-AA39-4EFF-B42C-0E80605A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C0127-D6A0-4658-B9FF-9EB4C47A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E80DA-E8B2-4E00-88BC-27A14E0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5E3F2-1546-40DE-B2D3-C700349E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A595-5E22-4A99-81DD-8BCFEE85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010F-E4CA-4509-9F67-B04CA7C1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D2283-53C2-4761-BF53-5D410BF2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F7EF3-AA16-411C-8759-EABC3672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F5307-9F7E-49EB-812C-D98C4F90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8483E-3D28-4296-81C0-D8D6B85B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F0B85-7F95-4CA6-AF70-61A1731A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91E9D-4DAE-49E3-B308-85933C1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56D8A-FBC6-4EF9-8206-66B0314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7CAAA-B33A-4D46-8CF0-A222D5F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C7FF-AA9F-46BD-9484-5B7C608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BAB-C3E6-4859-B4EF-D0375AFB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E0D7B-23B6-46F0-933B-8C610E1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C97BF-A03E-4492-917C-BB9A162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F05C9-12FB-4F88-BC74-B3AB75A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A87EE-DD10-47E1-9756-8DA106E7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E5008-4767-4E1F-B13B-9EB485D6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75E3A-BB1B-45E9-BA4D-804D53CB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52883-3C2B-4647-A63B-26FA1481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0613D-B3E0-4550-AA90-19E63F9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31636-B211-4C04-AE47-5EB65BD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A975E-6E84-41AD-94F7-702F410A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D5A9-C642-4090-BB78-3559936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467A0-9E06-4B13-A7E7-75F92BE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1FF7B-7945-4079-84AE-480E559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F60A8-8611-4399-972E-ACD4531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44D12-EB27-44DD-A050-E0A231E0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6E40D-3B8F-425E-9C5E-D8E216E4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B4622-89CA-49F6-B8F0-20049743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0FC51-4B67-46F2-9B73-021803EB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A81F1-AE54-43DE-85C5-B489CF7E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1961F-FE22-470F-BA63-FC848683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15115-079A-41EC-9672-9E89B25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B47F-C62C-400B-A9EE-5C866DCD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EF6F2D-0A9D-446D-93E8-CB5F5A3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B8335-BB8A-4485-9F20-A4D85D9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6F81D-9F12-4CDD-B140-A5E224E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EE17C-4887-4784-8B58-08D5626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E12EA-A726-426F-BCCA-19F21E0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CD6B4-7FBB-4B24-B406-7B8DAF27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6D962-4351-49F3-9449-4DAF8EA2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33134-7277-4A16-8C82-9200B047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19151-4F0D-4CCA-B55E-CCC305A5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6E0F2E-50DA-4121-812F-FA106427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C60A-4CB5-46D8-9E59-D50D8903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7FCC1-0AE9-419D-BBD8-9B9EE2B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D3FBB-E095-4C11-A9F1-CD19843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8E8C9-3E3F-4069-9A83-B3A27813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BD7D3-4F71-4660-A3D3-BE680BDC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5F80E-17EF-41C7-8DC2-CA55892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484E1-3F8B-4235-8BE8-D64D1AC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ECFD4-80FB-4812-8F1C-B219E2F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4F946-07C9-4E18-A312-C82C9B9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3C268-561E-4192-B44A-72DD09E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8A5AA-8664-4FF1-BB9A-F39A09C8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256A-5015-435B-A950-8BFD34A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B85CE-EF21-49BA-85CB-EE81EF72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AA260-B02E-4000-AC9B-7EA9AF2E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499FC-B59D-4D7B-AAA1-08619BA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668FE-A78F-4EF0-9E73-020F0347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24516-8961-4D79-AF17-9D1731D0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A7D98-401B-49BA-98D4-2FA3F110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10E72-4BA0-4574-8676-CE8CE54D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A98C3-EC86-475A-A479-4AA8383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2E14E-5FF9-4CE8-916F-57E3D1CE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C3ADB-8EF6-4EF4-9DBC-9562E35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4065-5C62-412D-8BA4-DBA8F2E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B85323-35AE-47A3-9C2A-3044A60C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1B568-9F95-44A6-B562-867AF0BA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1447E-3613-4C29-AF4E-6F7ADBCB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A4365-94FF-4D0F-9CA8-5F5FF7B5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A8A6C-6E38-4FC5-9D3E-5F487910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7B909-C1CB-4CF0-A3FB-B323DC14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78CA4-525A-4D78-8C98-7C2F7B1C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59FCA-65DE-48D2-B712-93491B16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8F6BC-CFE5-4F58-B8C8-F6FA1C7F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CC4B2-BFED-4628-9A95-F7498298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449-239E-48C0-B01F-A4C5C385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9CB8-B10D-4093-934B-81162087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F676F-3B17-4E80-BC4F-6AADCA5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5D857-34AE-49E8-B0F4-CFEFDDC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078F8-F3A0-4A79-91F2-8F6F750F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2C094-9869-4CF6-B2F8-34D611C8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4513E-9BD8-4DA9-A8FF-9B4A5E14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A15C7-AAC9-42CE-A97A-44886728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FCE0B-66AC-4AC2-B15F-37873FD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EB0E8-636E-42BA-83EB-DEA08A6F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E65F4-F5C8-4D02-9AEB-A9674437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C2D14-38D7-4422-9584-D89DABE5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279E-604F-414D-B5AB-D7FE04E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E1CF0-A3C8-48BB-A4A1-AEEC8BF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4A6FB-E03B-4068-9203-F8171DDE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3FEF0-8020-4A2B-B0B3-3FB19DBF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B61729-1CC6-45E2-9B1F-2EECFC0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D1CFC-23A6-4004-926E-BEC64EF1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D320F-0396-4F8D-9EE7-9DD9CA7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B8EE7-72AD-4542-9FE1-3537430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F65DC-D7AF-4CA9-8D26-0D7B1656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6FE40-91F5-49E3-843F-C89C1ED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48A39-0A34-4E70-9397-999CC3BB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2996-6085-401E-8A52-16932A57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1EA19-2E56-4D89-92BF-39EDEA9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3B2C8-8BD1-45F8-82C3-71C2DE3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04C38-AC0E-4FE0-A7F9-85C48D1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32C5B-61A8-4630-9970-4F534743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BA082-765C-414A-B91D-901950F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190B9-862A-4FFD-A53F-23BBC60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75221C-B1D9-4E2E-B22C-30AD20D2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ED328-2D68-4B41-99F2-8AF3054C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40D34-A61D-4449-BF55-1836677B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D2F2C-2DD1-4712-A8B4-C1C83299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AC9-8F73-4ACB-82F3-54288112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A8E99F-FABB-4F22-BDC8-91CFE62C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E363C-3E9E-47A6-99B3-3DE2C80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839FA-2C4C-4EA2-B494-1179EF27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EF6F46-8EF5-4A3A-A7BA-FAD9EADC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98D42B-C69D-4EBB-B16B-0C63B2D7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34044-B34A-4AE8-8A39-201C450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8CCC5-39DA-4C17-8B58-0B797D7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A4C84-DBCC-471B-96D5-5A33652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51D7F-7DE5-4862-8EDE-1F22AC63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2697E-12BC-4390-9AC9-35C666EF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80DA-CAEF-4D22-B05F-BDF869DE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05893-C295-4EC7-907F-C3A47068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99047E-6E15-4993-8EAE-F9AA3914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B34C8-18E8-4A2C-BD0E-E773B0FB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AF605-DBFC-4A7D-9DE4-33E48B8C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4EA523-68D7-4F7E-992C-F5A59DC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E0D2C-9366-4583-B3B6-37F6040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B23F4-79F3-49C4-98CE-7BFB99D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8CB6E-0597-43FB-A850-474BA96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C4404-F5CA-4B13-925F-D9AF0F3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ED960-4336-4383-A96D-B6EC6CD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7558-5262-4D03-A63C-F0DC01DC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D1B98-041B-436D-A9B1-CB0ACC18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5E2780-20E0-40F2-8501-0DD66212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03E3DA-B0EA-4D52-8B27-82E36607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36F5-2757-4747-AB5F-9BF21FD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CB3A-B54F-4751-B65F-E5398C7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6EEA-A9FA-4274-9D30-CC34038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EFC9-6058-4A65-8383-9A53898D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D3A-EA63-4090-9D55-C1CAB18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0B69-C0C0-413E-8328-D32670EE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7DA4-E4B4-4974-AABF-655072F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C4DD-8428-4F44-BEDF-6565439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AB84-BDC7-4F23-8954-52CF734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19EDF-ACC8-4BBC-95A1-EAAD3912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C2C4-B603-48F7-B378-50A152D9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B1BF-33BA-4A0E-9161-6B8CC264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AE44-4A4A-41DB-8232-74298B1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1779-474F-4696-B88F-6B4EF39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5310-64A9-44E0-950D-E763065A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44C-9C95-482D-8817-0845815E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64E96-06CB-4799-B327-6584E78C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90B7-1BE0-44F8-AB0C-14C618C2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35C6F-230E-4182-AA71-CBF37619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90A89-F566-474E-B80B-355F1BA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D729-E5BD-450D-B6FC-22F2236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10C3-2A5E-4937-BD0C-5C7D688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55B1-4713-4C56-958F-B1C5ECD6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CF70-F983-460A-911E-595B13B6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FD14-D2B1-4C91-A786-491E227A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4E8F0-48A2-4427-8125-2E64868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50B-4456-439A-8EE5-398242B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526F-7BA7-436E-8AB6-F2A4976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CC9B-0FE3-4CFE-ADD6-7C82A81B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AAF1-BAE8-4C9A-B56B-5A4FD655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3F21-4264-4A89-9223-A1EFC540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6812-9C9F-4A96-BC8A-AE8E9639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4D66-E724-4155-97BD-76C014D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A784-D87C-416F-88AB-CCAC152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C650-F960-45D6-95D6-A83AF52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FFD7A-365E-46F1-B15B-35459E85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B748E-8534-4D86-990C-E6099D02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3D0-7EB7-477D-94DF-7AA9965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F87CC-6524-43B7-83B9-F42416D6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5E67C-A218-4E53-9999-1D98E33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843F-64CC-463C-AD9E-485EE44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5DA2-7559-4A47-89E7-BE05CE7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D66B-EDDD-4309-A2BA-F2CDDD7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40526-CEBA-4EC5-B17D-A87D7FFA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75429-0DC3-4BBE-AC53-FF3988D4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FD0A-82C1-4E29-A914-BC80CE25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43BE5-E98E-4643-AD93-AA0A765A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E1E1D-ACF5-4BA1-A472-4BA7734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E64-D240-47BA-ABB6-FAA0409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2951-1E03-4D8C-9FDD-3EB2904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C2F0C-5CFD-47EA-A74D-53244EB9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3E6A6-306B-48C7-9BF5-CB812B8E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A498-6A9B-4361-9633-FE7E2FB6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5C3A-207A-4934-98AC-2EA9DC00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0E890-1091-4826-92BB-A58DD87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2FC0A-40B9-429F-AACA-B135963B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526D-7531-4E12-BF22-4A0D4090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F7B2C-B1F4-4F1C-BCC2-DFFB0AA6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D4A37-B511-441A-B6B3-A8EC9740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C66-9B28-43AE-9B35-97D5941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5AA7-8F31-4365-BBBF-72755BE2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5F8D6-8356-4587-99AC-0F02EF6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DF48-2E84-4598-900B-2695F30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8D8D7-615F-4868-BB15-EBBB9B90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0A2E-15DF-4B4F-8D7E-D4564E65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8E4B-FEB0-48BE-AF3F-A8571390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F6A0-CA0F-427D-AF4B-AABF4FD8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515B4-E770-4703-AAF8-AABF4BB4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CA9DC-F3C1-4AB4-BA65-A455A19B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2B669-D53C-456D-B9B3-F403575A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098-56C1-4796-8CE1-9AA1071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C06FF-6C72-4928-912A-3CEDE5A9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03F40-0D6F-469D-9FB7-A5C8C760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25332-AA67-4A12-9A7C-F2523F9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E0D2B-0890-440F-97DC-510FE21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AD946-A4C6-4A6F-9C11-D8D01C46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18ED-0EC9-46BF-B3B2-3C8EA646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F22C5-B361-4221-84A5-FD551EB5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388EA-563B-42B3-8585-BD89B844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77BFF-E55F-4433-ABE9-691BA85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522C1-AC8E-4FB3-BA24-DE7D0434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2B84-8736-417B-8800-36E2E9824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6DC-7437-4EB3-82C8-09B8DF5A5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B6FA-FA5B-4AB9-AFDB-E76A8A436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662-0440-4ADC-908F-CDF0E751C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058-4868-4F12-AC70-964D2E815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CD9-A81E-48C4-B25B-779BE89F0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0133-8412-4904-B890-4785FF03E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E17F-284E-4717-8BD4-952B27690E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F4E-CE64-4B54-9C8E-B72BADC0A7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A3A0-167C-4B7B-9246-F8282896D9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DF9B-BF20-4CCE-AC1F-607D67F6F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DAD5-F554-4875-ACE8-57EE80B32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654E-CC04-4A01-AE00-200C8DB612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67C7-FB33-4260-B5A7-A4E0A275B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960-3249-44A5-8BBB-E93878184D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2EC4-78F7-4C97-B65D-9354C9914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49BC-2DE1-4165-8B5A-54FACE76D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335-444A-45BF-80CF-330117288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A74A-AD2A-4F8B-A1C1-2F5E017D8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BEE6-FCF8-4B21-B461-9B58473246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34F7-37FF-40A7-80C3-F385E91F3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AA6-EDAA-4568-8E72-CF57B0C46F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3A78-33A0-4DCC-A7D3-597B54916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1057-3623-4FD1-BB87-27499516A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B1E5-C301-42B4-93F5-C8BF27B637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18EA-0A4D-489A-AC3A-D2175E63A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48B-E200-4A0C-A38D-10D593EF8C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60E7-C5D6-49D4-AD44-109087E15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C2ED-0A13-4B67-A9CA-1AB9E5577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9AE2-0E58-4BA5-BFAB-C668BB473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B272-99B3-406E-B11A-7B81A9E6A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0F6-6361-4897-9654-2C4B2AB25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9F53-E163-42B9-848E-8D872BB53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C49-EA21-42A6-8E0E-6C9F255F2E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D28-983D-4131-834B-9A4CB6977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B6BE-0010-4A04-8A74-105083847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D1F4-FB4E-46F3-A1FA-CD56301D6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BE39-3A8F-43B2-B608-9F0635070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F481-B5E5-45B7-B618-4A13E4FDCF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21F-76DD-41E9-B277-0017C4279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948040" y="3086280"/>
            <a:ext cx="3247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953480" cy="3666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2"/>
          <a:stretch/>
        </p:blipFill>
        <p:spPr>
          <a:xfrm>
            <a:off x="382680" y="888840"/>
            <a:ext cx="8548560" cy="3924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3"/>
          <a:stretch/>
        </p:blipFill>
        <p:spPr>
          <a:xfrm>
            <a:off x="366840" y="1374840"/>
            <a:ext cx="8547120" cy="744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4"/>
          <a:stretch/>
        </p:blipFill>
        <p:spPr>
          <a:xfrm>
            <a:off x="349200" y="2219400"/>
            <a:ext cx="8548560" cy="744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5"/>
          <a:stretch/>
        </p:blipFill>
        <p:spPr>
          <a:xfrm>
            <a:off x="333360" y="2992320"/>
            <a:ext cx="8547120" cy="744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5" descr=""/>
          <p:cNvPicPr/>
          <p:nvPr/>
        </p:nvPicPr>
        <p:blipFill>
          <a:blip r:embed="rId6"/>
          <a:stretch/>
        </p:blipFill>
        <p:spPr>
          <a:xfrm>
            <a:off x="388800" y="3765600"/>
            <a:ext cx="8547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15440" cy="59338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"/>
          <p:cNvPicPr/>
          <p:nvPr/>
        </p:nvPicPr>
        <p:blipFill>
          <a:blip r:embed="rId2"/>
          <a:stretch/>
        </p:blipFill>
        <p:spPr>
          <a:xfrm>
            <a:off x="341280" y="418320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3"/>
          <a:stretch/>
        </p:blipFill>
        <p:spPr>
          <a:xfrm>
            <a:off x="324000" y="4597560"/>
            <a:ext cx="8548560" cy="392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4"/>
          <a:stretch/>
        </p:blipFill>
        <p:spPr>
          <a:xfrm>
            <a:off x="450720" y="5010120"/>
            <a:ext cx="8548920" cy="3938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5"/>
          <a:stretch/>
        </p:blipFill>
        <p:spPr>
          <a:xfrm>
            <a:off x="434880" y="544212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6"/>
          <a:stretch/>
        </p:blipFill>
        <p:spPr>
          <a:xfrm>
            <a:off x="490680" y="5854680"/>
            <a:ext cx="8547120" cy="3938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" descr=""/>
          <p:cNvPicPr/>
          <p:nvPr/>
        </p:nvPicPr>
        <p:blipFill>
          <a:blip r:embed="rId7"/>
          <a:stretch/>
        </p:blipFill>
        <p:spPr>
          <a:xfrm>
            <a:off x="457200" y="6269040"/>
            <a:ext cx="85471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1" descr=""/>
          <p:cNvPicPr/>
          <p:nvPr/>
        </p:nvPicPr>
        <p:blipFill>
          <a:blip r:embed="rId1"/>
          <a:stretch/>
        </p:blipFill>
        <p:spPr>
          <a:xfrm>
            <a:off x="495360" y="871560"/>
            <a:ext cx="8153280" cy="51148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5" descr=""/>
          <p:cNvPicPr/>
          <p:nvPr/>
        </p:nvPicPr>
        <p:blipFill>
          <a:blip r:embed="rId2"/>
          <a:stretch/>
        </p:blipFill>
        <p:spPr>
          <a:xfrm>
            <a:off x="366840" y="87156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3"/>
          <a:stretch/>
        </p:blipFill>
        <p:spPr>
          <a:xfrm>
            <a:off x="349200" y="1357200"/>
            <a:ext cx="8548560" cy="392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4"/>
          <a:stretch/>
        </p:blipFill>
        <p:spPr>
          <a:xfrm>
            <a:off x="422280" y="1787400"/>
            <a:ext cx="8547120" cy="3938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5"/>
          <a:stretch/>
        </p:blipFill>
        <p:spPr>
          <a:xfrm>
            <a:off x="404640" y="2201760"/>
            <a:ext cx="8548920" cy="392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6"/>
          <a:stretch/>
        </p:blipFill>
        <p:spPr>
          <a:xfrm>
            <a:off x="404640" y="2631960"/>
            <a:ext cx="8548920" cy="3938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"/>
          <p:cNvPicPr/>
          <p:nvPr/>
        </p:nvPicPr>
        <p:blipFill>
          <a:blip r:embed="rId7"/>
          <a:stretch/>
        </p:blipFill>
        <p:spPr>
          <a:xfrm>
            <a:off x="388800" y="304632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" descr=""/>
          <p:cNvPicPr/>
          <p:nvPr/>
        </p:nvPicPr>
        <p:blipFill>
          <a:blip r:embed="rId8"/>
          <a:stretch/>
        </p:blipFill>
        <p:spPr>
          <a:xfrm>
            <a:off x="531720" y="3476520"/>
            <a:ext cx="8548920" cy="393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"/>
          <p:cNvPicPr/>
          <p:nvPr/>
        </p:nvPicPr>
        <p:blipFill>
          <a:blip r:embed="rId9"/>
          <a:stretch/>
        </p:blipFill>
        <p:spPr>
          <a:xfrm>
            <a:off x="515880" y="3890880"/>
            <a:ext cx="8547120" cy="770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"/>
          <p:cNvPicPr/>
          <p:nvPr/>
        </p:nvPicPr>
        <p:blipFill>
          <a:blip r:embed="rId10"/>
          <a:stretch/>
        </p:blipFill>
        <p:spPr>
          <a:xfrm>
            <a:off x="404640" y="4741920"/>
            <a:ext cx="8548920" cy="392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11"/>
          <a:stretch/>
        </p:blipFill>
        <p:spPr>
          <a:xfrm>
            <a:off x="388800" y="515628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12"/>
          <a:stretch/>
        </p:blipFill>
        <p:spPr>
          <a:xfrm>
            <a:off x="444600" y="5578560"/>
            <a:ext cx="85471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496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1" descr=""/>
          <p:cNvPicPr/>
          <p:nvPr/>
        </p:nvPicPr>
        <p:blipFill>
          <a:blip r:embed="rId1"/>
          <a:stretch/>
        </p:blipFill>
        <p:spPr>
          <a:xfrm>
            <a:off x="600120" y="1324080"/>
            <a:ext cx="7943760" cy="42098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2"/>
          <a:stretch/>
        </p:blipFill>
        <p:spPr>
          <a:xfrm>
            <a:off x="298440" y="131616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5" descr=""/>
          <p:cNvPicPr/>
          <p:nvPr/>
        </p:nvPicPr>
        <p:blipFill>
          <a:blip r:embed="rId3"/>
          <a:stretch/>
        </p:blipFill>
        <p:spPr>
          <a:xfrm>
            <a:off x="282600" y="174636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5" descr=""/>
          <p:cNvPicPr/>
          <p:nvPr/>
        </p:nvPicPr>
        <p:blipFill>
          <a:blip r:embed="rId4"/>
          <a:stretch/>
        </p:blipFill>
        <p:spPr>
          <a:xfrm>
            <a:off x="264960" y="2232000"/>
            <a:ext cx="8548920" cy="7714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5" descr=""/>
          <p:cNvPicPr/>
          <p:nvPr/>
        </p:nvPicPr>
        <p:blipFill>
          <a:blip r:embed="rId5"/>
          <a:stretch/>
        </p:blipFill>
        <p:spPr>
          <a:xfrm>
            <a:off x="264960" y="3021120"/>
            <a:ext cx="8548920" cy="3920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5" descr=""/>
          <p:cNvPicPr/>
          <p:nvPr/>
        </p:nvPicPr>
        <p:blipFill>
          <a:blip r:embed="rId6"/>
          <a:stretch/>
        </p:blipFill>
        <p:spPr>
          <a:xfrm>
            <a:off x="249120" y="3435480"/>
            <a:ext cx="8547120" cy="3920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5" descr=""/>
          <p:cNvPicPr/>
          <p:nvPr/>
        </p:nvPicPr>
        <p:blipFill>
          <a:blip r:embed="rId7"/>
          <a:stretch/>
        </p:blipFill>
        <p:spPr>
          <a:xfrm>
            <a:off x="231840" y="3849840"/>
            <a:ext cx="8548560" cy="3920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5" descr=""/>
          <p:cNvPicPr/>
          <p:nvPr/>
        </p:nvPicPr>
        <p:blipFill>
          <a:blip r:embed="rId8"/>
          <a:stretch/>
        </p:blipFill>
        <p:spPr>
          <a:xfrm>
            <a:off x="358920" y="4309920"/>
            <a:ext cx="8548560" cy="392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5" descr=""/>
          <p:cNvPicPr/>
          <p:nvPr/>
        </p:nvPicPr>
        <p:blipFill>
          <a:blip r:embed="rId9"/>
          <a:stretch/>
        </p:blipFill>
        <p:spPr>
          <a:xfrm>
            <a:off x="343080" y="4724280"/>
            <a:ext cx="8546760" cy="3924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"/>
          <p:cNvPicPr/>
          <p:nvPr/>
        </p:nvPicPr>
        <p:blipFill>
          <a:blip r:embed="rId10"/>
          <a:stretch/>
        </p:blipFill>
        <p:spPr>
          <a:xfrm>
            <a:off x="398520" y="5138640"/>
            <a:ext cx="85471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1" descr=""/>
          <p:cNvPicPr/>
          <p:nvPr/>
        </p:nvPicPr>
        <p:blipFill>
          <a:blip r:embed="rId1"/>
          <a:stretch/>
        </p:blipFill>
        <p:spPr>
          <a:xfrm>
            <a:off x="357120" y="763560"/>
            <a:ext cx="8458200" cy="59436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5" descr=""/>
          <p:cNvPicPr/>
          <p:nvPr/>
        </p:nvPicPr>
        <p:blipFill>
          <a:blip r:embed="rId2"/>
          <a:stretch/>
        </p:blipFill>
        <p:spPr>
          <a:xfrm>
            <a:off x="357120" y="4175280"/>
            <a:ext cx="5721480" cy="392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5" descr=""/>
          <p:cNvPicPr/>
          <p:nvPr/>
        </p:nvPicPr>
        <p:blipFill>
          <a:blip r:embed="rId3"/>
          <a:stretch/>
        </p:blipFill>
        <p:spPr>
          <a:xfrm>
            <a:off x="341280" y="4660920"/>
            <a:ext cx="5719680" cy="392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"/>
          <p:cNvPicPr/>
          <p:nvPr/>
        </p:nvPicPr>
        <p:blipFill>
          <a:blip r:embed="rId4"/>
          <a:stretch/>
        </p:blipFill>
        <p:spPr>
          <a:xfrm>
            <a:off x="468360" y="5073480"/>
            <a:ext cx="5719680" cy="3938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5" descr=""/>
          <p:cNvPicPr/>
          <p:nvPr/>
        </p:nvPicPr>
        <p:blipFill>
          <a:blip r:embed="rId5"/>
          <a:stretch/>
        </p:blipFill>
        <p:spPr>
          <a:xfrm>
            <a:off x="595440" y="5487840"/>
            <a:ext cx="8221680" cy="8478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5" descr=""/>
          <p:cNvPicPr/>
          <p:nvPr/>
        </p:nvPicPr>
        <p:blipFill>
          <a:blip r:embed="rId6"/>
          <a:stretch/>
        </p:blipFill>
        <p:spPr>
          <a:xfrm>
            <a:off x="450720" y="6350040"/>
            <a:ext cx="82216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1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7877160" cy="353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"/>
          <p:cNvPicPr/>
          <p:nvPr/>
        </p:nvPicPr>
        <p:blipFill>
          <a:blip r:embed="rId2"/>
          <a:stretch/>
        </p:blipFill>
        <p:spPr>
          <a:xfrm>
            <a:off x="351000" y="844560"/>
            <a:ext cx="8221680" cy="392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5" descr=""/>
          <p:cNvPicPr/>
          <p:nvPr/>
        </p:nvPicPr>
        <p:blipFill>
          <a:blip r:embed="rId3"/>
          <a:stretch/>
        </p:blipFill>
        <p:spPr>
          <a:xfrm>
            <a:off x="477720" y="1266840"/>
            <a:ext cx="8221680" cy="3920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5" descr=""/>
          <p:cNvPicPr/>
          <p:nvPr/>
        </p:nvPicPr>
        <p:blipFill>
          <a:blip r:embed="rId4"/>
          <a:stretch/>
        </p:blipFill>
        <p:spPr>
          <a:xfrm>
            <a:off x="388800" y="1752480"/>
            <a:ext cx="8221680" cy="3924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5" descr=""/>
          <p:cNvPicPr/>
          <p:nvPr/>
        </p:nvPicPr>
        <p:blipFill>
          <a:blip r:embed="rId5"/>
          <a:stretch/>
        </p:blipFill>
        <p:spPr>
          <a:xfrm>
            <a:off x="372960" y="2165400"/>
            <a:ext cx="8221680" cy="393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" descr=""/>
          <p:cNvPicPr/>
          <p:nvPr/>
        </p:nvPicPr>
        <p:blipFill>
          <a:blip r:embed="rId6"/>
          <a:stretch/>
        </p:blipFill>
        <p:spPr>
          <a:xfrm>
            <a:off x="428760" y="2579760"/>
            <a:ext cx="8219880" cy="392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5" descr=""/>
          <p:cNvPicPr/>
          <p:nvPr/>
        </p:nvPicPr>
        <p:blipFill>
          <a:blip r:embed="rId7"/>
          <a:stretch/>
        </p:blipFill>
        <p:spPr>
          <a:xfrm>
            <a:off x="411120" y="2994120"/>
            <a:ext cx="8221680" cy="3920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5" descr=""/>
          <p:cNvPicPr/>
          <p:nvPr/>
        </p:nvPicPr>
        <p:blipFill>
          <a:blip r:embed="rId8"/>
          <a:stretch/>
        </p:blipFill>
        <p:spPr>
          <a:xfrm>
            <a:off x="395280" y="3336840"/>
            <a:ext cx="8221680" cy="5558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" descr=""/>
          <p:cNvPicPr/>
          <p:nvPr/>
        </p:nvPicPr>
        <p:blipFill>
          <a:blip r:embed="rId9"/>
          <a:stretch/>
        </p:blipFill>
        <p:spPr>
          <a:xfrm>
            <a:off x="378000" y="3894120"/>
            <a:ext cx="82213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82440" y="758880"/>
            <a:ext cx="9039240" cy="6000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5" descr=""/>
          <p:cNvPicPr/>
          <p:nvPr/>
        </p:nvPicPr>
        <p:blipFill>
          <a:blip r:embed="rId2"/>
          <a:stretch/>
        </p:blipFill>
        <p:spPr>
          <a:xfrm>
            <a:off x="2679840" y="1346040"/>
            <a:ext cx="1496880" cy="231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4533840" y="1774800"/>
            <a:ext cx="612720" cy="230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4719600" y="2476440"/>
            <a:ext cx="1292400" cy="351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5019840" y="2898720"/>
            <a:ext cx="614160" cy="324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5657760" y="3240000"/>
            <a:ext cx="209520" cy="230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8088480" y="3219480"/>
            <a:ext cx="209520" cy="230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7829640" y="3546360"/>
            <a:ext cx="406440" cy="171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9"/>
          <a:stretch/>
        </p:blipFill>
        <p:spPr>
          <a:xfrm>
            <a:off x="5940360" y="3778200"/>
            <a:ext cx="406440" cy="169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10"/>
          <a:stretch/>
        </p:blipFill>
        <p:spPr>
          <a:xfrm>
            <a:off x="4765680" y="4016520"/>
            <a:ext cx="406440" cy="1695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11"/>
          <a:stretch/>
        </p:blipFill>
        <p:spPr>
          <a:xfrm>
            <a:off x="8298000" y="4024440"/>
            <a:ext cx="406440" cy="1695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12"/>
          <a:stretch/>
        </p:blipFill>
        <p:spPr>
          <a:xfrm>
            <a:off x="4176720" y="4521240"/>
            <a:ext cx="1204920" cy="212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13"/>
          <a:stretch/>
        </p:blipFill>
        <p:spPr>
          <a:xfrm>
            <a:off x="4224240" y="4800600"/>
            <a:ext cx="1204920" cy="212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14"/>
          <a:stretch/>
        </p:blipFill>
        <p:spPr>
          <a:xfrm>
            <a:off x="4135320" y="5095800"/>
            <a:ext cx="1293840" cy="212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15"/>
          <a:stretch/>
        </p:blipFill>
        <p:spPr>
          <a:xfrm>
            <a:off x="4048200" y="5923080"/>
            <a:ext cx="209520" cy="153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16"/>
          <a:stretch/>
        </p:blipFill>
        <p:spPr>
          <a:xfrm>
            <a:off x="4111560" y="6184800"/>
            <a:ext cx="209520" cy="154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17"/>
          <a:stretch/>
        </p:blipFill>
        <p:spPr>
          <a:xfrm>
            <a:off x="4119480" y="6426360"/>
            <a:ext cx="20952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3" descr=""/>
          <p:cNvPicPr/>
          <p:nvPr/>
        </p:nvPicPr>
        <p:blipFill>
          <a:blip r:embed="rId1"/>
          <a:stretch/>
        </p:blipFill>
        <p:spPr>
          <a:xfrm>
            <a:off x="338040" y="1176480"/>
            <a:ext cx="8467920" cy="4505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2"/>
          <a:stretch/>
        </p:blipFill>
        <p:spPr>
          <a:xfrm>
            <a:off x="7977240" y="3124080"/>
            <a:ext cx="50472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361800" y="1066680"/>
            <a:ext cx="8420400" cy="4724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7977240" y="3639960"/>
            <a:ext cx="504720" cy="392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1859040" y="5332320"/>
            <a:ext cx="2754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203040" y="785880"/>
            <a:ext cx="8448840" cy="3047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2" descr=""/>
          <p:cNvPicPr/>
          <p:nvPr/>
        </p:nvPicPr>
        <p:blipFill>
          <a:blip r:embed="rId2"/>
          <a:stretch/>
        </p:blipFill>
        <p:spPr>
          <a:xfrm>
            <a:off x="861840" y="3911760"/>
            <a:ext cx="8067960" cy="2847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3"/>
          <a:stretch/>
        </p:blipFill>
        <p:spPr>
          <a:xfrm>
            <a:off x="8080200" y="5934240"/>
            <a:ext cx="5050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309600" y="785880"/>
            <a:ext cx="8524800" cy="5981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2"/>
          <a:stretch/>
        </p:blipFill>
        <p:spPr>
          <a:xfrm>
            <a:off x="7883640" y="1155600"/>
            <a:ext cx="503280" cy="393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3"/>
          <a:stretch/>
        </p:blipFill>
        <p:spPr>
          <a:xfrm>
            <a:off x="2116080" y="2865600"/>
            <a:ext cx="23954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1357200" y="766800"/>
            <a:ext cx="6191280" cy="2590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2"/>
          <a:stretch/>
        </p:blipFill>
        <p:spPr>
          <a:xfrm>
            <a:off x="657360" y="3414600"/>
            <a:ext cx="8057880" cy="3372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3"/>
          <a:stretch/>
        </p:blipFill>
        <p:spPr>
          <a:xfrm>
            <a:off x="411120" y="5075280"/>
            <a:ext cx="8488440" cy="392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4"/>
          <a:stretch/>
        </p:blipFill>
        <p:spPr>
          <a:xfrm>
            <a:off x="387360" y="5489640"/>
            <a:ext cx="8486640" cy="392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5"/>
          <a:stretch/>
        </p:blipFill>
        <p:spPr>
          <a:xfrm>
            <a:off x="369720" y="5935680"/>
            <a:ext cx="8488440" cy="392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6"/>
          <a:stretch/>
        </p:blipFill>
        <p:spPr>
          <a:xfrm>
            <a:off x="353880" y="6350040"/>
            <a:ext cx="8487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285840" y="843120"/>
            <a:ext cx="8572320" cy="5943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"/>
          <p:cNvPicPr/>
          <p:nvPr/>
        </p:nvPicPr>
        <p:blipFill>
          <a:blip r:embed="rId2"/>
          <a:stretch/>
        </p:blipFill>
        <p:spPr>
          <a:xfrm>
            <a:off x="461880" y="835200"/>
            <a:ext cx="8487000" cy="3920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3"/>
          <a:stretch/>
        </p:blipFill>
        <p:spPr>
          <a:xfrm>
            <a:off x="444600" y="1249200"/>
            <a:ext cx="8488440" cy="392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4"/>
          <a:stretch/>
        </p:blipFill>
        <p:spPr>
          <a:xfrm>
            <a:off x="428760" y="1671480"/>
            <a:ext cx="8486640" cy="392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5"/>
          <a:stretch/>
        </p:blipFill>
        <p:spPr>
          <a:xfrm>
            <a:off x="412920" y="2157480"/>
            <a:ext cx="8486640" cy="4096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6"/>
          <a:stretch/>
        </p:blipFill>
        <p:spPr>
          <a:xfrm>
            <a:off x="395280" y="2714760"/>
            <a:ext cx="8488440" cy="392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7"/>
          <a:stretch/>
        </p:blipFill>
        <p:spPr>
          <a:xfrm>
            <a:off x="379440" y="3200400"/>
            <a:ext cx="84866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433440" y="828720"/>
            <a:ext cx="8277120" cy="58863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2" descr=""/>
          <p:cNvPicPr/>
          <p:nvPr/>
        </p:nvPicPr>
        <p:blipFill>
          <a:blip r:embed="rId2"/>
          <a:stretch/>
        </p:blipFill>
        <p:spPr>
          <a:xfrm>
            <a:off x="5499000" y="2062080"/>
            <a:ext cx="3095640" cy="33339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3"/>
          <a:stretch/>
        </p:blipFill>
        <p:spPr>
          <a:xfrm>
            <a:off x="198360" y="2062080"/>
            <a:ext cx="5145120" cy="392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4"/>
          <a:stretch/>
        </p:blipFill>
        <p:spPr>
          <a:xfrm>
            <a:off x="181080" y="2548080"/>
            <a:ext cx="514656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5"/>
          <a:stretch/>
        </p:blipFill>
        <p:spPr>
          <a:xfrm>
            <a:off x="165240" y="2962440"/>
            <a:ext cx="5145120" cy="392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6"/>
          <a:stretch/>
        </p:blipFill>
        <p:spPr>
          <a:xfrm>
            <a:off x="149400" y="3375000"/>
            <a:ext cx="5144760" cy="3938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7"/>
          <a:stretch/>
        </p:blipFill>
        <p:spPr>
          <a:xfrm>
            <a:off x="276120" y="3755880"/>
            <a:ext cx="5145120" cy="13287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8"/>
          <a:stretch/>
        </p:blipFill>
        <p:spPr>
          <a:xfrm>
            <a:off x="276120" y="5010120"/>
            <a:ext cx="5145120" cy="392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9"/>
          <a:stretch/>
        </p:blipFill>
        <p:spPr>
          <a:xfrm>
            <a:off x="403200" y="5423040"/>
            <a:ext cx="8547120" cy="393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10"/>
          <a:stretch/>
        </p:blipFill>
        <p:spPr>
          <a:xfrm>
            <a:off x="385920" y="5854680"/>
            <a:ext cx="8548560" cy="392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11"/>
          <a:stretch/>
        </p:blipFill>
        <p:spPr>
          <a:xfrm>
            <a:off x="369720" y="6340320"/>
            <a:ext cx="854712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6:42:22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